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8C4-0FE1-4E11-B247-162809B7C9B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ADFA-AF65-41A6-8C27-F7F6E271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I not auto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DC4-59B7-48B0-A95E-1A89D35F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902-110D-4ADC-B8EF-A7B4EB59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AF3D-149C-4884-BE9D-FD3510A4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6F2D-C445-4E75-A3FE-3D62CEBD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80B-0AB8-429D-9D40-8E7BE79F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5B4-DCDD-4943-9AC6-9491B1F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2FF-B99A-4913-B408-55BC0010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F96-357D-47B0-B2B4-2105955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A6D-2390-4682-9ED8-26B611F5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ED6-DDB2-4478-88A7-D26CCA90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247-080D-4F6C-B1FA-9760249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0EC-37EF-42A2-9283-D5B11CBE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73DD-BEAC-4BF3-B155-94D469A8E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193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ware: Its latest development using Moose and Bio::Chado::Sch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dhartha B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ictybas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34"/>
          <p:cNvSpPr/>
          <p:nvPr/>
        </p:nvSpPr>
        <p:spPr>
          <a:xfrm>
            <a:off x="914400" y="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(Literature c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066680"/>
            <a:ext cx="830592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34"/>
          <p:cNvSpPr/>
          <p:nvPr/>
        </p:nvSpPr>
        <p:spPr>
          <a:xfrm>
            <a:off x="914400" y="152280"/>
            <a:ext cx="7086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447920"/>
            <a:ext cx="731520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(from pubm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ontology(obo 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ort GAF 1.0/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ort GA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Experimental buil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219320"/>
            <a:ext cx="7239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Publication::Pubm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bcs_resultset ‘Pub::Pub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has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$_ for qw/title pages issue volume/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_id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rimary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year’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=&gt; (column =&gt; ‘pyea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 ‘pubmed_id’     =&gt; (column =&gt; ‘uniquenam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1143000"/>
            <a:ext cx="716256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typ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‘type’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=&gt; (cv =&gt; ‘pub_type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chado_propert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‘abstract’  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v =&gt; ‘pub_type’, cvterm =&gt; ‘pub_abstract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has_many ‘authors’ 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Publication::Author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38080" y="1676520"/>
            <a:ext cx="754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package Modware::Chado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use Modware::Ch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bcs_resultset ‘Stock::Stoc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dbxref   ‘id’ =&gt; (db =&gt; ‘Stock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chado_belongs_to ‘organism’ =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(class =&gt; ‘Modware::Chado::Organism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34"/>
          <p:cNvSpPr/>
          <p:nvPr/>
        </p:nvSpPr>
        <p:spPr>
          <a:xfrm>
            <a:off x="914400" y="2286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Proje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447920"/>
            <a:ext cx="830592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ithub.com/cybersiddhu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gmod.org/wiki/Mo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mod-ware-users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34"/>
          <p:cNvSpPr/>
          <p:nvPr/>
        </p:nvSpPr>
        <p:spPr>
          <a:xfrm>
            <a:off x="91440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Rela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80880" y="68580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6765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::Caching (in CP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search.cpan.org/dist/Mojolicious-Plugin-Cach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jolicious::PluginBu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ML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ware::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TagHel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github.com/cybersiddhu/Mojolicious-PluginBu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091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x Chisho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ren Kib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ulia Bushman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tra F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scale Gau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b Do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90720" y="763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54321"/>
                </a:solidFill>
                <a:latin typeface="Arial"/>
                <a:ea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5335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1692360"/>
            <a:ext cx="396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S(Bio::Chado::Schema)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MO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M for chado/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des chado specific storage det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Gene/Protein, Alignment, Publication, Ontology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rch/Finde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rsal API between biological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tibility with other API(e.g bioper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of MVC web applications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st/Mojo/Dancer et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</a:t>
            </a: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hado</a:t>
            </a: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5"/>
          <p:cNvSpPr/>
          <p:nvPr/>
        </p:nvSpPr>
        <p:spPr>
          <a:xfrm>
            <a:off x="385920" y="7621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ed with Class::DBI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st release of Class::DBI module (4 years ba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ed with dictyBase data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on Bio::Chado::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ose for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34"/>
          <p:cNvSpPr/>
          <p:nvPr/>
        </p:nvSpPr>
        <p:spPr>
          <a:xfrm>
            <a:off x="380880" y="22860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54321"/>
                </a:solidFill>
                <a:latin typeface="Arial"/>
                <a:ea typeface="Arial"/>
              </a:rPr>
              <a:t>Modware - Chado middle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34"/>
          <p:cNvSpPr/>
          <p:nvPr/>
        </p:nvSpPr>
        <p:spPr>
          <a:xfrm>
            <a:off x="914400" y="763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54321"/>
                </a:solidFill>
                <a:latin typeface="Arial"/>
                <a:ea typeface="Arial"/>
              </a:rPr>
              <a:t>Modware Data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5"/>
          <p:cNvSpPr/>
          <p:nvPr/>
        </p:nvSpPr>
        <p:spPr>
          <a:xfrm>
            <a:off x="380880" y="609480"/>
            <a:ext cx="822492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2120"/>
            <a:ext cx="862812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00ff"/>
                </a:solidFill>
                <a:latin typeface="Arial"/>
                <a:ea typeface="Arial"/>
              </a:rPr>
              <a:t>use aliased ‘Modware::DataSource::Chado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Pg:database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dsn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dbi:Oracle:sid=mymo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=&gt; ‘use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password  =&gt; ‘passwor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attr             =&gt; { AutoCommit =&gt; 1, LongTruncOk =&gt; 1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connect( dsn =&gt; ‘dbi:SQLite:database=mydb.sqlite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t/Set through Bio::Chado::Schema(BC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Chado-&gt;handl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hado-&gt;handler(Bio::Chado::Schema-&gt;connect($dsn,$user,$pass,$attr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34"/>
          <p:cNvSpPr/>
          <p:nvPr/>
        </p:nvSpPr>
        <p:spPr>
          <a:xfrm>
            <a:off x="914400" y="763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CRUD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5"/>
          <p:cNvSpPr/>
          <p:nvPr/>
        </p:nvSpPr>
        <p:spPr>
          <a:xfrm>
            <a:off x="385920" y="60948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838080"/>
            <a:ext cx="78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Pubm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use Modware::Publication::Author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pub = Modware::Publication::Pubmed-&gt;new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year     =&gt; 201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tatus  =&gt; ‘publishe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v        =&gt;  ‘pub_typ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pubmed_id(33222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(‘JBC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bstract(‘This is a cool abstarct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Publication::Author-&gt;new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L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Johnson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=&gt; ‘M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7315200" cy="63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my $new_pub = $pub-&gt;sa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add_author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{    first_name =&gt; ‘Je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Seinfeld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itials        =&gt; ‘Mr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suffix         =&gt; ‘Jr.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medline_id(12782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full_text_url(‘http://journal.org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(‘Charmin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$new_pub-&gt;sa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new_pub-&gt;dele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CS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y $bcs = $new_pub-&gt;dbr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34"/>
          <p:cNvSpPr/>
          <p:nvPr/>
        </p:nvSpPr>
        <p:spPr>
          <a:xfrm>
            <a:off x="914400" y="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Finder/Search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35"/>
          <p:cNvSpPr/>
          <p:nvPr/>
        </p:nvSpPr>
        <p:spPr>
          <a:xfrm>
            <a:off x="385920" y="53352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457200"/>
            <a:ext cx="822960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singl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(2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 = Modware::Chado::Publication-&gt;find_by_pubmed_id(3229830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ieve multipl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pubs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itr = 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while(my $pub = $itr-&gt;nex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tit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pub-&gt;journ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228600"/>
            <a:ext cx="82296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@authors = $pub-&gt;authors;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or my $author(@author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author-&gt;first_nam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$count = Modware::Chado::Publication-&gt;count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irst_name =&gt; ‘Harry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last_name =&gt; ‘Williams’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journal       =&gt; ‘EMBO journal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%optio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cond =&gt; { clause =&gt; ‘OR’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Modware::Chado::Publication-&gt;search( title =&gt; ‘genomics*’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34"/>
          <p:cNvSpPr/>
          <p:nvPr/>
        </p:nvSpPr>
        <p:spPr>
          <a:xfrm>
            <a:off x="914400" y="763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54321"/>
                </a:solidFill>
                <a:latin typeface="Arial"/>
                <a:ea typeface="Arial"/>
              </a:rPr>
              <a:t>Web application (List of publ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35"/>
          <p:cNvSpPr/>
          <p:nvPr/>
        </p:nvSpPr>
        <p:spPr>
          <a:xfrm>
            <a:off x="385920" y="685800"/>
            <a:ext cx="8224560" cy="0"/>
          </a:xfrm>
          <a:prstGeom prst="line">
            <a:avLst/>
          </a:prstGeom>
          <a:ln w="572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21:33:32Z</dcterms:created>
  <dc:creator>Eric Just</dc:creator>
  <dc:description/>
  <dc:language>en-US</dc:language>
  <cp:lastModifiedBy>Siddhartha Basu</cp:lastModifiedBy>
  <dcterms:modified xsi:type="dcterms:W3CDTF">2011-03-06T17:30:36Z</dcterms:modified>
  <cp:revision>312</cp:revision>
  <dc:subject/>
  <dc:title>Slide 1</dc:title>
</cp:coreProperties>
</file>